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E67-6AF7-4F15-AC0F-7E8AFB8E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082-A8AE-4CDF-AD21-D04D5D6D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9C9E0-DC9B-49A3-8469-F464984C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85199-262E-45A2-B7E6-D2BA40E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17AC4-376C-443F-8D14-ABF4516B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4E415-8DA7-4036-967D-8D11905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C7283-E6FF-44B3-B550-5B93D83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58D3F-F766-470B-B3D9-25D7C51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2AED1-9EBC-4D73-96B7-354B3BF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800D6-9169-4687-8E18-51490753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9E93F-D7B0-4684-98B8-437C9138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82EFB-1AD9-43C5-ABC2-D729599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AF0-3743-4467-8CC7-7D257D72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31A6B-A590-4A97-8267-40DC2D6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B9CBA-6B39-461D-942E-F46863B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84244-948A-494D-88AC-95FB61FF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E960E-C39E-4D86-B5CF-98DFBD9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5226F-B3E4-4726-8C26-03B3F54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3526D-4C34-4F58-9DEA-E327C6D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CAAD4-1A7A-423D-82A3-6364EC3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A339B-32A1-4635-A0C3-BE27B1D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1F604-76BC-4C14-A78A-FD3A990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EEB95-ADB3-4838-B88D-77DA8CC3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8AA-AB7F-417F-9607-9740C918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159F0-5BEB-40F5-80C3-0D9B8469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2B455-6D96-4524-9288-FEC787CD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30D1F-9DBD-42B0-8B9F-D4475079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97635-B368-4FF1-B375-2659E1BD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36396-44AA-46D9-84A1-D6BE9CFC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CB78-BD86-44C6-8C5D-4B02FEFE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B3634-39DC-455F-A3CA-D826D36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7D80E-AD32-4C70-AA40-010DFE2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9FE05-8A44-4E9B-97AC-B9404BB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CE16E-49FD-4AF0-8B0D-D4AD061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24EA-3F5C-4CB6-9F5C-8EDFBAEF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AC9C-E49A-4F51-98BA-08B6C05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AE645-9BCB-4055-B0B7-2CCF1D9C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93941-4C36-4DC7-972F-1857ED56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9BC22-DE4E-459A-9AF8-210964CF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9C7CC-4EC7-420B-8A88-A24A8A42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3A8EC-7F74-4553-8545-BB3C0897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2085A-C445-4FD6-9434-B67B5A02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E2A82-AD90-4D69-8C00-92DEB8F7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AC134-9703-4A95-BD9C-3C11F7C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4BD9E-9D0E-440F-BDA7-EA65917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EF3-C758-47BC-B2B1-423FFCC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6D6E3-6176-46F1-8BE5-5501710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2E61A-D5A4-4084-A9CE-CC5871C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C8437-A427-4504-AC3A-2F183034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69516-ADED-471C-B6C7-C8A6451D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B85A4-EF37-41A1-898A-9C61FFC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BA803-A005-446A-80D4-48799C3C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01453-A278-493C-BE3A-0F1C284A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AF05A-72BF-4953-B4E3-DDB49774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A9F5E-4C60-40C5-97AB-4A4E41A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90A7A-02FF-4336-91FD-CF62521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265A-9B67-48AD-B4DA-BA11C52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09227-BE05-4748-92E7-77136623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1B341-CAF4-4125-BD85-58DBE15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6DD6A-3A44-43A3-A3DE-41FD91C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A9FFB-DB2F-4EAE-AD1B-ED2D7BE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681F5-709D-4343-9AC2-B0C7F36C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61C38-9561-4500-9518-84E4B1B4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51540-497D-454C-8A17-B61A68B4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EDBF0-FCEF-490A-933E-8F3994E4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9DAA3-8F2A-4F29-8BA0-3622C043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8684B-2854-484F-8061-9872642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5EB-1E1B-44C3-84F2-8B6CE8D7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866B1-8DE8-42AA-B3A9-849995E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DB826-C8B1-4D2F-A0E7-DEC391B6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688CD-8666-4651-B301-45C0CED4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B7666-0854-45E0-B845-4DDA1AD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A8915-B4C7-43F5-A898-2B95B83E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46935-CC5E-4158-B6FC-6328F24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FA346-63A8-48BB-A620-CEA74E69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D9F58-2117-4525-82FE-4260A650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D3A07-4830-4438-89DD-E2800CE3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3A15D-6ECE-4497-8F60-DA97CF73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282C-7EB7-4924-B10D-86F5095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2D4D4-B14E-4117-ABF5-CC4F1DF4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4341C-2B0C-4E39-A7DE-115A8A0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11744-A7AB-4B76-9388-031E032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08273-D0DF-4A55-8E0C-D2D3D2F8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D38BD-8FDA-4F43-AC2F-757F9D0A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03BCA-3C1E-4EA9-8144-6486809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F84DD-FE05-4F38-A637-132C756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7B5AF-F42A-4441-B92B-99F728D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BD223-0995-4786-ACA7-B55B8E67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F5636-D772-486F-A580-F521C00B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BCC-912D-4E0B-A118-8733C12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A841F-FA0B-4821-BE52-399AE251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6E45A-79BA-4CF9-8191-7BABB4B9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2E84C-07E6-4B7D-B8CF-F875AB0D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22541-544E-4A8D-89F0-3A33DE8E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1157A-5B18-4DDD-9D41-74EA3623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9C828-93CF-44C8-9307-800968C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1F73A-37CD-4C40-BD16-17333712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864FD-8EE7-4EED-91BF-D6808039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06494-024D-4312-B9A2-4219F31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C6773-73B0-493C-97E9-6A49ED7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8348-8A0A-4D8F-A88C-2A88DCA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8C96B-9327-4478-BCF1-F37EBC8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659CC-0417-4FDE-8173-307ED1F2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908A0-EE71-405C-929A-D6D95389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05668-AADB-40E7-8068-BBDAB866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345AB-80E7-4A24-AD85-285CA7C4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7B0C8-D601-475F-8543-448CCDD5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EE0EA-23E0-4120-8E0C-034D01C3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2B062-F895-46B5-A91E-EA6EF065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813CA-30EF-45B1-A980-9AF28D4C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69949-9267-4691-B0DA-FE62BA32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767-5AD5-4776-BC60-17C23A1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E538-786D-4C2B-93B3-68D63B7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4002B-16A5-4A45-A27B-0D36FD5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03A96-3A19-48B2-B893-F76BECF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A7504-6B2A-4726-9A3C-68AC046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89976-57D6-41A4-9940-1CFF33C4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530CA-0C85-43AC-B28D-822D05A6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221D9-ED4F-4EAB-9571-4154DBA8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A388B-A0C8-4CC9-B136-F549274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0E220-97FF-4A2C-ABAA-372887FC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DF853-6A7B-40A3-A5F8-A376C42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F1898-657F-4735-B205-11493170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B12C-0CAC-4AD9-9E1A-4699D14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8E8E7-D7FB-4E23-82C3-FB00C7BE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E5F31-2E73-45FC-B30E-A5802E0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9A046-C4A0-4FEE-904C-1C5CB23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18F46-61BA-4E62-845F-D7C691F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E730F-B48A-4331-9CFA-778435F5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26B99-9730-42DE-BB92-FCC00C05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13B96-48FC-4576-B092-4E2885FE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3687C-69E9-4ADE-AF4A-A3E6FEA0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AF520-2BFD-4A7E-B63A-0F7A7E80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23FC2-5F1A-489A-9402-35750989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592-8673-4A12-83FA-F101C804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A7C9D-4366-44EE-84ED-AE4F34D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DFE7F-F097-4E2F-B851-CBC7BE2E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D4E03E-CCE4-478B-8D11-C40C6295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ED12E-CB24-4E01-AFC2-59A42BB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EAE09-6B94-4E92-95F8-E2BCB3FE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F6CC8-0B0B-4CA2-9D2A-561F1EC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EFA31-AD37-4C3C-B15E-68A6038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95CFE-D396-4938-A4DA-172BFDA8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EA3F1-7B58-42F9-8D3A-C5500B3E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91654-2E3C-4865-AFC2-B5B6A552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43AA-536D-46F0-9A5E-3B758921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BCA98-0C4C-4F7D-A148-C574107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3A6371-68B2-4FD7-9EAD-F5F101F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814CB-F2E2-4455-A4B2-B9DF4D0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1D39C-8A5E-471F-BAD5-E129C6A5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FB1F-394F-4767-A01E-01C6964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A0FFA-E623-4E64-B43E-06E6F69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F75C1-55EB-419A-BC38-17B05D1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E432A-6B24-4019-B53C-75CDF40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4D9DC-D4E1-4C94-81D9-926291B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CF39A-38E2-4416-98D5-8ACAE543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D8AC-D462-4745-BAE8-4DE1B870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5521E-95EA-476E-BE44-774F9BA6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E4F3C-CE68-421A-90BC-B99741B8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C83E1-B93E-4759-B3A1-8E460B31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2CEE1-0528-4482-87BA-BE7D33E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BE56B-6040-4FA8-9B0F-35607982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2A2AC-6F5D-40DA-A449-4223CED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12617-6328-4282-B407-B70C6AD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E5D93-47BF-41C2-8104-9D923F8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569162-B92D-44B5-AB80-98F1ED5C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075CF-6219-4D56-BE18-8DDEB153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6BDB-67C7-430A-AD9D-0B88D375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F502F0-0CCE-4D96-A575-CA4FC4A2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4C93F-0750-4F8D-959B-6E224131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9FD9A-133B-4160-AB2A-584CBA76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A923D9-051D-478A-88C6-35A8BC57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99959C-25CC-42DF-AE1A-95FA49CB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2DF74-34C1-445F-B572-CB96F276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719016-D175-48B2-BD33-EF30F90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8CE435-622D-4D92-B0F2-4A081D2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E7EC0-3A2C-41D3-99E2-BA08680D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A2DD2-1342-495E-B08A-D888BADA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5DAA-A2B9-4702-A611-A06A32CA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9149C7-7F34-4D32-8BDA-E19C142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667A3-9430-4138-9E9E-74C8F2B5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83913C-7CC4-45DC-A19C-B5E90EA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8CFD5-DCDC-413E-A4F4-D0F3E5C9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BDC14-2010-4838-9CFC-4E08BD68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8AC8D9-9947-409D-A05C-A828506F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3C332D-829A-484B-BFA0-3C1A006A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9331B-17DC-4DE8-8031-FE4D6326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CDCC6A-BF4D-4EFB-855E-E4B0A4F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3687B-93F0-4A75-A6B8-DD3D35C0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AB93-C7F3-46A7-BCD2-CA9AA93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6B289F-B5D5-460D-B73E-5230E526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9EAB7-056A-4FDD-908A-77B6A27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CC4945-EBAB-4555-A669-F69FE2C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F9FC8-1210-4ABD-87B1-12FAD70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44A63-F013-4341-9CFB-0108F9A6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A1212D-93A3-43CB-8DA8-657E9EE6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E1F49A-0574-4399-91F0-7600A8FB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69F03-4475-42BE-B9AD-B527524A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E0E40C-4836-4A74-AE92-E2DB27C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43EE8F-4E95-4938-913C-8FBDDA5E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CDA7-8B78-496E-BA92-90E60DB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9FBF32-D81E-41A9-9320-77AB217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B50425-574B-4858-8550-5C8A91A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7A5565-D271-4B5F-80BA-A39B65E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ED4355-F948-4FB5-B37D-F8936CE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FB758-DAA5-472A-858C-97AB0EB4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B57B3-F7F7-4EDB-BCAE-B3DAA24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43FB19-717C-43C0-B43C-D70F1F8A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3934E8-5FE2-44A4-9213-7676823D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DCF61-B972-4DF1-BC5C-0CC49392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11FC67-F928-4DF9-B43D-FFEBDFFB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2D1E-F3B4-4F64-B727-A025052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41518D-0BAC-4B22-8FCE-D619261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0F1B1-381F-4EB5-BBDD-F8699FA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85D3B3-1484-4AEB-8096-89838F5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8D636C-9E2F-42E4-909C-5258815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733F08-BC63-413B-AF87-CC6FD481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BD6F4A-CE97-4A4E-A5C0-E059CC6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509578-91F9-40DD-87DE-BACEA3C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27E095-7F43-4C9F-8243-A64B781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E3E923-FA72-45A1-8EF9-F172E8C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186223-DCAE-4250-B7AC-8BE3AAE5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F29-C73D-4EBE-B6C9-2B93F6C3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58C3-BCB0-4AFE-860D-52E0899E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CB6A4E-95DD-47E9-AACD-BC16BF37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2E7581-94D0-493E-8C19-050FB6C4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56F972-E14A-4C5D-9517-8142A832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416CA-AB6D-44FA-8F90-F0B7E5C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115247-1AB3-4CB5-AC3B-98D835FA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377DCF-577C-449C-A8A7-4AE6E6F5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4EFA0A-F83F-4102-86AC-BB22B63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0470D9-2549-45AD-A19E-09C52CBD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D7758C-66D4-43E2-8518-0B2AAA3A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E4248-021A-497D-A9FF-87E2C23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634A-B6D9-41F7-8974-2230D74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7F0EA3-6333-4456-94A7-F4C3879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60D947-F8C6-4ADC-9283-5D5C29DA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5B6AF2-B577-45D1-AE3C-71D3C4D6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BDD157-5C36-48B2-AED0-FC694E9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8951D8-2908-495F-906A-7AACDDB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D4BCBE-EAF1-403E-AA1E-E971EEB4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5FACE3-B47B-49D8-A9A1-73109EA6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A5DA4-36C1-42CE-A2C0-0696685A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E1D759-A53B-4D96-976A-07A0DA36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220236-A626-4D07-A14C-30633FF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E5EF-60FC-4D19-BAC1-EEFE948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4D44DE-6662-42E1-988A-78AA7A8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6D25E2-2DAA-4952-B73F-A465E71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6F6EC0-8D25-426B-9740-4F4775C0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0585E4-B550-436E-B749-51D263A5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5A8D0-07B0-449F-8FA4-0537F20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776BC-7F4F-4D13-A083-22BEB7F2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9DAF72-FEF5-4CB6-8CA8-994EB69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AB0AE9-7311-41E5-AC66-29AB74B8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FFB450-804A-4064-8265-C03C2655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69B771-A8B8-4A6F-A9C0-CAB5F19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D28C-C894-4D54-BE30-73AF1E3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E2E87C-E9ED-4169-9E50-FF5A691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41FF07-C2DC-4217-A061-73264C0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B8B703-6449-41F7-8027-C1C6996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B88E53-153F-45F5-B067-6C1EFEC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D9ED55-AB47-4F12-8313-709F9AE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F84507-F80B-4FE5-A720-63C756C6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1D41A5-15A3-4B27-A78D-1B5236D8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20C2CB-92CA-47CE-971C-4ACD569F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3C1B8E-7AEB-4683-850C-CE0FBDD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F44AA2-5BAF-4ED1-AFE9-D8A3B314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931A-CE24-4696-AA1F-EAD51EF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4E0A35-AF6C-451A-9F7A-BA3B122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64BB3-34B8-430B-A4F5-020285F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CC1702-704D-424E-B29C-1EE4581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9ECE0C-F95E-41CA-AC9E-AC64E4D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451BB9-287C-4F6E-926C-3E2C671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860EAF-892C-414A-A704-6484010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2EA61B-D610-4F3B-B66C-E7B2D217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CC42F2-9855-47F4-8328-C233C8FD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D4C820-EAE5-4E0D-A658-185B162D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27E47A-805B-4925-8F55-0E1DBCD4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C1AC-F110-4A0D-B26E-2DC6F6AB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030FE1-137C-42E2-A4C4-531C6CBA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F406C-E581-4BE5-806C-3A375A2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F822CA-55D7-4F84-A4D0-944E13EF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EBE3B8-A863-4D19-8357-EE7B221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6F4ED5-E653-42F0-B47D-B982DBB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4A2882-31FF-4E5A-80DE-BE02961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16AEFD-C7C5-46BB-83DF-D81E93C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3EAFD0-B4E0-40B0-B656-6320F6F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0069CD-FB4A-4C60-A0AA-0A1AC134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FAE090-957B-4F1F-A78B-EB062442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8860-8EC2-4A5A-8BCC-B455671A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CF99CC-7FEA-4B57-9FA9-394D278C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BA9226-EC26-4D35-8676-26A0D064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BE4223-2EB2-4287-81EA-DFC86B4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D1A7EB-2138-4734-B5D6-FBB0BF3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C834C1-CBB4-4C2D-B54F-2F76F0F8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D3237B-75F6-49A0-9383-AB09EB31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03731F-A45F-43D0-95E6-F9E949BB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88193E-62CA-49F4-9BEB-931A8BF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651458-D0B2-427B-AB08-9274B568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A0E5F9-240D-46B0-BF85-D872D23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1D86-02F7-4763-BA37-444A0F14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51082E-EA2B-49AA-AEDA-26D50AB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E83BC5-4CD4-49DB-8532-63C0A1EA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3EE5A1-4039-49F5-8805-FFAAEBC6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DC8B-B723-416C-AE0A-EEDBBA4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A09C-04C8-4D20-A63A-3D196B6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8B1-DD0F-4BD0-98D7-15AB8EAC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33FFB-66D9-4E6E-BAC4-025F3499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CA53-B87F-435A-B4C9-4258A1A7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F12A-AC03-4E21-81AE-9C37DD8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15D6-51CC-4AB5-9CB3-5D27681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D265-66AF-41FF-BF3A-D3C71C1D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2D06-22D4-42A0-AE00-C454ACF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8BBC-B6CB-4DAC-8807-9BBC763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E9DC-0F74-460F-B26D-BE9293BA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CEE5-44CF-4AD6-9C0C-0B859C1A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BB96-3820-4C36-8297-1E034DA2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F7B-86BF-41E6-BA9E-C4F4E7DC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2F9C-ACC6-4D71-ACA6-1901A779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6BE9-551C-417C-B967-42FB38E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EC11-B10B-41B0-A9F7-3416CDC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799D-51A4-4A54-BEA2-FE6B23CC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E264-22B8-409D-B764-85601A0E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DB66-CF6C-46ED-8436-D4552F6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116E-08EF-4001-8DC0-30535BC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EE001-BBC0-4F83-9DC3-B18A4B5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7819-CF1F-460B-823C-8411D27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A462-81F3-4F57-BD02-EEB6905B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740-D44E-4F05-8F84-C391D76C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8404-AF46-433C-B1F5-11C00496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B8B3-0D54-4435-B942-60AA1F1E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5CA8-5F36-4471-962E-99DF6D37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A2E1-CEFB-4FF0-996E-5367611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2699-D134-4C4C-91F1-8740A84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3FEE-3107-4748-9D6A-5035E820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10C9-DD2E-4966-9AC5-527188F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DADC-119B-41A2-B181-DDF4625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3460-289D-4CB7-B51F-31840E8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BDB7-F613-4787-91B4-D054FA5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8F9-4625-44F6-BDB1-2B7C72D9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3DA7-327F-434F-85CE-7DB5394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9665-7E9B-4B07-869E-DE6624FD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C5F3-AF07-4357-B75E-17CE9B03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73F2-4B64-48F3-9156-104AD84E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EC16F-0C93-4223-89BD-90C8CA93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9C28D-B33A-4284-BA0C-13E8CF0C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FF488-9F94-460D-956E-9B3BDE1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24834-5065-46E4-82B7-969016B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71BC-045B-4977-8F9E-98C710C9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A6BD4-4F21-4C63-AD00-1DC5EE31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AF9-C373-4192-BA07-B885A55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9907-B956-4ED3-9DDE-9A531E5C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6695-D871-4432-9BCB-12214C8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6810-CACB-4BE7-B8C5-6814BEC5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6E69-8A21-4865-8DCF-56D07B29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575A-E87B-4A07-B17C-00EE1573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E085B-E619-444E-AC20-6665EBF4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1E31-0D81-43FD-86B6-82804512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572F-CED3-4AC7-9989-B131AA3A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5936-7280-4F12-959E-E9F1CC14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23393-9DD9-4B27-A44D-24B0D7DB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CD3-6348-4F3B-92D4-6943708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2891-DD9B-47DA-8DE9-4F901BB3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2A1FB-BF61-423B-A5FC-75793E30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33D80-BD2C-4DA2-BE18-D4ADF8A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09209-87D3-47E8-83D1-CB79258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C3CA-5410-4724-A615-F5D7171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F39B-37EF-4069-9557-B7EDDD6C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0BB4-9FE9-492D-8341-49919AC0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D6B3-2D26-4041-8442-1E2554A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C1336-D6BD-4800-B401-FA49C048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295E7-D37B-444E-AA44-D6EBC4FF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4A5D-5A81-4137-B31B-798BF2B5B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3E3-BABA-44C0-92DC-55AA462BCE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AE4-727B-4AE9-8427-BBD5C48BA4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29B-5842-446A-B827-F9B3C081DA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7F78-718D-4AD8-8BF2-FEC4CA4FA2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27AB-F1CC-45FC-BE2B-C8008C348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6A8-4635-4614-86A3-618E3A43C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EDB9-4231-4E92-B381-63F5B4099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66B6-AB44-47C0-8A39-8909FF5AF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9D66-CB21-40E0-94BD-30FBC5A6D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C880-C4D2-4098-9FE6-7674204DD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345-A4DD-43CE-898A-D96A089CB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865F-5CAA-49C5-B906-D4022DCD4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4113-7B98-4049-BF5D-2DFBADC05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6D84-AD54-4614-B5EF-6C96656B56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A82-20D3-477A-BD7D-DF8873A2E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710-EA87-4CBE-BE09-BE3166428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555-36B0-40EC-8F99-92AB6A350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ADE-03DC-4848-9A47-45EA00A71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ED94-638C-4DDB-8BDB-4B165A2BB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5570-2096-4742-A50B-66019C5FF3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C92-96F1-43FE-B984-C599B181A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625-BD09-423C-BEA8-4362DB546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A727-333F-41C9-9C53-620D5796F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C5CD-708E-4B39-831C-D3A2139BB2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3D0-2204-42C2-9941-9848D45B3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2295-FF28-4A11-AC19-4AD074575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C171-BE86-4C00-A672-77D16548C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349-55D4-47BC-BE83-42C5A37A5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3AC6-D861-4B00-BF61-FEA10D368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19D5-6416-40A3-B1E1-22832F89D7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F1E3-B139-48B4-B7A8-7385CE4899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808-9307-43E1-BFDB-571DA0E12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D1F2-0D4D-4739-8A59-926634695A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B43-571B-4CC1-9604-241E91D729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9D6-3FE0-4BFA-9CF1-490A2EA0C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412-E261-46AE-A81F-B736841FA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EC2-BADA-433C-A922-22CB52A65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1464-3E40-4FB9-83CA-A30DD2A1B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C83F-94ED-47B0-B8F2-1D4B896545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C78-D4CA-4C12-A46A-05DAC402F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DAC-5876-4A55-995F-DACBC38EF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1ED-A861-4D6B-9A72-BE1BE5BD7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A6C-1760-4E79-ACBD-696BA15DA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C7F2-BB03-40B3-95E4-0EC49F88F3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5CB7-8018-4C52-8C65-E96DDCACCA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FE28-BCA7-4D44-ACF0-8BD2E93FFD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CC8E-316C-496D-87A6-AADC25627D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9408-D989-4ECB-A47F-7AF19F4F01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079-4AFF-4FA9-A374-0E0A91E6D1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276640" y="1962000"/>
            <a:ext cx="4552920" cy="11430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176560" y="3303720"/>
            <a:ext cx="4771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6737" descr=""/>
          <p:cNvPicPr/>
          <p:nvPr/>
        </p:nvPicPr>
        <p:blipFill>
          <a:blip r:embed="rId1"/>
          <a:stretch/>
        </p:blipFill>
        <p:spPr>
          <a:xfrm>
            <a:off x="552600" y="1290600"/>
            <a:ext cx="8038800" cy="43718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6738"/>
          <p:cNvSpPr/>
          <p:nvPr/>
        </p:nvSpPr>
        <p:spPr>
          <a:xfrm>
            <a:off x="7861320" y="331164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5714" descr=""/>
          <p:cNvPicPr/>
          <p:nvPr/>
        </p:nvPicPr>
        <p:blipFill>
          <a:blip r:embed="rId1"/>
          <a:stretch/>
        </p:blipFill>
        <p:spPr>
          <a:xfrm>
            <a:off x="452520" y="738360"/>
            <a:ext cx="7972200" cy="37116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115715" descr=""/>
          <p:cNvPicPr/>
          <p:nvPr/>
        </p:nvPicPr>
        <p:blipFill>
          <a:blip r:embed="rId2"/>
          <a:stretch/>
        </p:blipFill>
        <p:spPr>
          <a:xfrm>
            <a:off x="3873600" y="1154160"/>
            <a:ext cx="2873160" cy="2617920"/>
          </a:xfrm>
          <a:prstGeom prst="rect">
            <a:avLst/>
          </a:prstGeom>
          <a:ln w="0">
            <a:noFill/>
          </a:ln>
        </p:spPr>
      </p:pic>
      <p:pic>
        <p:nvPicPr>
          <p:cNvPr id="1465" name="图片 115716" descr=""/>
          <p:cNvPicPr/>
          <p:nvPr/>
        </p:nvPicPr>
        <p:blipFill>
          <a:blip r:embed="rId3"/>
          <a:stretch/>
        </p:blipFill>
        <p:spPr>
          <a:xfrm>
            <a:off x="853920" y="3828960"/>
            <a:ext cx="7562880" cy="289584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5717"/>
          <p:cNvSpPr/>
          <p:nvPr/>
        </p:nvSpPr>
        <p:spPr>
          <a:xfrm>
            <a:off x="7765920" y="706320"/>
            <a:ext cx="349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4689" descr=""/>
          <p:cNvPicPr/>
          <p:nvPr/>
        </p:nvPicPr>
        <p:blipFill>
          <a:blip r:embed="rId1"/>
          <a:stretch/>
        </p:blipFill>
        <p:spPr>
          <a:xfrm>
            <a:off x="552600" y="804960"/>
            <a:ext cx="8020080" cy="53625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4690"/>
          <p:cNvSpPr/>
          <p:nvPr/>
        </p:nvSpPr>
        <p:spPr>
          <a:xfrm>
            <a:off x="1498680" y="524016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4691"/>
          <p:cNvSpPr/>
          <p:nvPr/>
        </p:nvSpPr>
        <p:spPr>
          <a:xfrm>
            <a:off x="1479600" y="575460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13665" descr=""/>
          <p:cNvPicPr/>
          <p:nvPr/>
        </p:nvPicPr>
        <p:blipFill>
          <a:blip r:embed="rId1"/>
          <a:stretch/>
        </p:blipFill>
        <p:spPr>
          <a:xfrm>
            <a:off x="785880" y="1324080"/>
            <a:ext cx="7534080" cy="43624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3666"/>
          <p:cNvSpPr/>
          <p:nvPr/>
        </p:nvSpPr>
        <p:spPr>
          <a:xfrm>
            <a:off x="1346040" y="228744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7"/>
          <p:cNvSpPr/>
          <p:nvPr/>
        </p:nvSpPr>
        <p:spPr>
          <a:xfrm>
            <a:off x="1279440" y="2811600"/>
            <a:ext cx="71312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68"/>
          <p:cNvSpPr/>
          <p:nvPr/>
        </p:nvSpPr>
        <p:spPr>
          <a:xfrm>
            <a:off x="1336680" y="330660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69"/>
          <p:cNvSpPr/>
          <p:nvPr/>
        </p:nvSpPr>
        <p:spPr>
          <a:xfrm>
            <a:off x="1241280" y="376380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70"/>
          <p:cNvSpPr/>
          <p:nvPr/>
        </p:nvSpPr>
        <p:spPr>
          <a:xfrm>
            <a:off x="1260360" y="427824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71"/>
          <p:cNvSpPr/>
          <p:nvPr/>
        </p:nvSpPr>
        <p:spPr>
          <a:xfrm>
            <a:off x="1289160" y="477360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72"/>
          <p:cNvSpPr/>
          <p:nvPr/>
        </p:nvSpPr>
        <p:spPr>
          <a:xfrm>
            <a:off x="1165320" y="527832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2641" descr=""/>
          <p:cNvPicPr/>
          <p:nvPr/>
        </p:nvPicPr>
        <p:blipFill>
          <a:blip r:embed="rId1"/>
          <a:stretch/>
        </p:blipFill>
        <p:spPr>
          <a:xfrm>
            <a:off x="547560" y="1119240"/>
            <a:ext cx="80298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1617" descr=""/>
          <p:cNvPicPr/>
          <p:nvPr/>
        </p:nvPicPr>
        <p:blipFill>
          <a:blip r:embed="rId1"/>
          <a:stretch/>
        </p:blipFill>
        <p:spPr>
          <a:xfrm>
            <a:off x="623880" y="828720"/>
            <a:ext cx="7496280" cy="3295440"/>
          </a:xfrm>
          <a:prstGeom prst="rect">
            <a:avLst/>
          </a:prstGeom>
          <a:ln w="0">
            <a:noFill/>
          </a:ln>
        </p:spPr>
      </p:pic>
      <p:pic>
        <p:nvPicPr>
          <p:cNvPr id="1480" name="图片 111618" descr=""/>
          <p:cNvPicPr/>
          <p:nvPr/>
        </p:nvPicPr>
        <p:blipFill>
          <a:blip r:embed="rId2"/>
          <a:stretch/>
        </p:blipFill>
        <p:spPr>
          <a:xfrm>
            <a:off x="646200" y="4361040"/>
            <a:ext cx="7562880" cy="183816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1619"/>
          <p:cNvSpPr/>
          <p:nvPr/>
        </p:nvSpPr>
        <p:spPr>
          <a:xfrm>
            <a:off x="1089000" y="126828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1620"/>
          <p:cNvSpPr/>
          <p:nvPr/>
        </p:nvSpPr>
        <p:spPr>
          <a:xfrm>
            <a:off x="1117440" y="175428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1621"/>
          <p:cNvSpPr/>
          <p:nvPr/>
        </p:nvSpPr>
        <p:spPr>
          <a:xfrm>
            <a:off x="1127160" y="223992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1622"/>
          <p:cNvSpPr/>
          <p:nvPr/>
        </p:nvSpPr>
        <p:spPr>
          <a:xfrm>
            <a:off x="1136520" y="273528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1623"/>
          <p:cNvSpPr/>
          <p:nvPr/>
        </p:nvSpPr>
        <p:spPr>
          <a:xfrm>
            <a:off x="1108080" y="3240000"/>
            <a:ext cx="7130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1624"/>
          <p:cNvSpPr/>
          <p:nvPr/>
        </p:nvSpPr>
        <p:spPr>
          <a:xfrm>
            <a:off x="1069920" y="3726000"/>
            <a:ext cx="71312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1625"/>
          <p:cNvSpPr/>
          <p:nvPr/>
        </p:nvSpPr>
        <p:spPr>
          <a:xfrm>
            <a:off x="1069920" y="483084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1626"/>
          <p:cNvSpPr/>
          <p:nvPr/>
        </p:nvSpPr>
        <p:spPr>
          <a:xfrm>
            <a:off x="1089000" y="5326200"/>
            <a:ext cx="71312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1627"/>
          <p:cNvSpPr/>
          <p:nvPr/>
        </p:nvSpPr>
        <p:spPr>
          <a:xfrm>
            <a:off x="1069920" y="5792760"/>
            <a:ext cx="7131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0593" descr=""/>
          <p:cNvPicPr/>
          <p:nvPr/>
        </p:nvPicPr>
        <p:blipFill>
          <a:blip r:embed="rId1"/>
          <a:stretch/>
        </p:blipFill>
        <p:spPr>
          <a:xfrm>
            <a:off x="557280" y="1333440"/>
            <a:ext cx="8029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09569" descr=""/>
          <p:cNvPicPr/>
          <p:nvPr/>
        </p:nvPicPr>
        <p:blipFill>
          <a:blip r:embed="rId1"/>
          <a:stretch/>
        </p:blipFill>
        <p:spPr>
          <a:xfrm>
            <a:off x="561960" y="1119240"/>
            <a:ext cx="7981920" cy="475308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09570"/>
          <p:cNvSpPr/>
          <p:nvPr/>
        </p:nvSpPr>
        <p:spPr>
          <a:xfrm>
            <a:off x="1108080" y="1611360"/>
            <a:ext cx="7567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9571"/>
          <p:cNvSpPr/>
          <p:nvPr/>
        </p:nvSpPr>
        <p:spPr>
          <a:xfrm>
            <a:off x="1117440" y="2097000"/>
            <a:ext cx="75679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9572"/>
          <p:cNvSpPr/>
          <p:nvPr/>
        </p:nvSpPr>
        <p:spPr>
          <a:xfrm>
            <a:off x="1069920" y="2573280"/>
            <a:ext cx="7567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3"/>
          <p:cNvSpPr/>
          <p:nvPr/>
        </p:nvSpPr>
        <p:spPr>
          <a:xfrm>
            <a:off x="1050840" y="3068640"/>
            <a:ext cx="7567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4"/>
          <p:cNvSpPr/>
          <p:nvPr/>
        </p:nvSpPr>
        <p:spPr>
          <a:xfrm>
            <a:off x="993600" y="3544920"/>
            <a:ext cx="75679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5"/>
          <p:cNvSpPr/>
          <p:nvPr/>
        </p:nvSpPr>
        <p:spPr>
          <a:xfrm>
            <a:off x="1089000" y="4992840"/>
            <a:ext cx="756756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6"/>
          <p:cNvSpPr/>
          <p:nvPr/>
        </p:nvSpPr>
        <p:spPr>
          <a:xfrm>
            <a:off x="1050840" y="5468760"/>
            <a:ext cx="7567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476280" y="2567160"/>
            <a:ext cx="819144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395280" y="857160"/>
            <a:ext cx="8372520" cy="60390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3203640" y="1968480"/>
            <a:ext cx="16160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3907"/>
          <p:cNvSpPr/>
          <p:nvPr/>
        </p:nvSpPr>
        <p:spPr>
          <a:xfrm>
            <a:off x="3108240" y="235908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3908"/>
          <p:cNvSpPr/>
          <p:nvPr/>
        </p:nvSpPr>
        <p:spPr>
          <a:xfrm>
            <a:off x="7289640" y="236844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09"/>
          <p:cNvSpPr/>
          <p:nvPr/>
        </p:nvSpPr>
        <p:spPr>
          <a:xfrm>
            <a:off x="7289640" y="274968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10"/>
          <p:cNvSpPr/>
          <p:nvPr/>
        </p:nvSpPr>
        <p:spPr>
          <a:xfrm>
            <a:off x="4165560" y="351144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11"/>
          <p:cNvSpPr/>
          <p:nvPr/>
        </p:nvSpPr>
        <p:spPr>
          <a:xfrm>
            <a:off x="6842160" y="351144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12"/>
          <p:cNvSpPr/>
          <p:nvPr/>
        </p:nvSpPr>
        <p:spPr>
          <a:xfrm>
            <a:off x="2413080" y="4673520"/>
            <a:ext cx="699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3"/>
          <p:cNvSpPr/>
          <p:nvPr/>
        </p:nvSpPr>
        <p:spPr>
          <a:xfrm>
            <a:off x="5708520" y="542592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14"/>
          <p:cNvSpPr/>
          <p:nvPr/>
        </p:nvSpPr>
        <p:spPr>
          <a:xfrm>
            <a:off x="2717640" y="6197760"/>
            <a:ext cx="700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376200" y="985680"/>
            <a:ext cx="8372520" cy="50580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2882"/>
          <p:cNvSpPr/>
          <p:nvPr/>
        </p:nvSpPr>
        <p:spPr>
          <a:xfrm>
            <a:off x="8185320" y="421632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1857" descr=""/>
          <p:cNvPicPr/>
          <p:nvPr/>
        </p:nvPicPr>
        <p:blipFill>
          <a:blip r:embed="rId1"/>
          <a:stretch/>
        </p:blipFill>
        <p:spPr>
          <a:xfrm>
            <a:off x="357120" y="747720"/>
            <a:ext cx="8372520" cy="328608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21858" descr=""/>
          <p:cNvPicPr/>
          <p:nvPr/>
        </p:nvPicPr>
        <p:blipFill>
          <a:blip r:embed="rId2"/>
          <a:stretch/>
        </p:blipFill>
        <p:spPr>
          <a:xfrm>
            <a:off x="352440" y="4191120"/>
            <a:ext cx="8334360" cy="23619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1859"/>
          <p:cNvSpPr/>
          <p:nvPr/>
        </p:nvSpPr>
        <p:spPr>
          <a:xfrm>
            <a:off x="8166240" y="730080"/>
            <a:ext cx="349200" cy="2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0"/>
          <p:cNvSpPr/>
          <p:nvPr/>
        </p:nvSpPr>
        <p:spPr>
          <a:xfrm>
            <a:off x="8185320" y="487368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0833" descr=""/>
          <p:cNvPicPr/>
          <p:nvPr/>
        </p:nvPicPr>
        <p:blipFill>
          <a:blip r:embed="rId1"/>
          <a:stretch/>
        </p:blipFill>
        <p:spPr>
          <a:xfrm>
            <a:off x="395280" y="1681200"/>
            <a:ext cx="8353440" cy="349560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0834"/>
          <p:cNvSpPr/>
          <p:nvPr/>
        </p:nvSpPr>
        <p:spPr>
          <a:xfrm>
            <a:off x="8271000" y="317808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9809" descr=""/>
          <p:cNvPicPr/>
          <p:nvPr/>
        </p:nvPicPr>
        <p:blipFill>
          <a:blip r:embed="rId1"/>
          <a:stretch/>
        </p:blipFill>
        <p:spPr>
          <a:xfrm>
            <a:off x="409680" y="1447920"/>
            <a:ext cx="8362800" cy="37526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9810"/>
          <p:cNvSpPr/>
          <p:nvPr/>
        </p:nvSpPr>
        <p:spPr>
          <a:xfrm>
            <a:off x="8213760" y="175896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19811"/>
          <p:cNvSpPr/>
          <p:nvPr/>
        </p:nvSpPr>
        <p:spPr>
          <a:xfrm>
            <a:off x="6689880" y="351144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8785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81880" cy="31622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8786"/>
          <p:cNvSpPr/>
          <p:nvPr/>
        </p:nvSpPr>
        <p:spPr>
          <a:xfrm>
            <a:off x="8242200" y="327348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7761" descr=""/>
          <p:cNvPicPr/>
          <p:nvPr/>
        </p:nvPicPr>
        <p:blipFill>
          <a:blip r:embed="rId1"/>
          <a:stretch/>
        </p:blipFill>
        <p:spPr>
          <a:xfrm>
            <a:off x="385920" y="1371600"/>
            <a:ext cx="8372160" cy="409572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7762"/>
          <p:cNvSpPr/>
          <p:nvPr/>
        </p:nvSpPr>
        <p:spPr>
          <a:xfrm>
            <a:off x="8213760" y="1739880"/>
            <a:ext cx="349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7763"/>
          <p:cNvSpPr/>
          <p:nvPr/>
        </p:nvSpPr>
        <p:spPr>
          <a:xfrm>
            <a:off x="8223120" y="4140360"/>
            <a:ext cx="349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0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